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0173F-BB92-441F-9AB3-A693645D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B338A-C1D9-48F8-89EB-79D4F129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C2DDE-382D-4273-AC97-D1AE6000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39985-C3F7-4A25-982A-57CCFA2D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DAAC5-A4EB-4BD1-B83B-90BC7612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33474-28CC-4A1B-A29D-15846E99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6A900-A562-4F3C-9152-66F0AF47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CCF3A-6EE7-4252-86D1-4569B906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8093A-EA54-4B94-A519-63A6368D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51E9E-EB9C-414D-97FD-89E4CD0E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2C92A-BCAC-4AD6-827C-D8D09764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D3E0C-92FD-4033-BFED-8348AFA1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6114960"/>
            <a:ext cx="1752840" cy="742680"/>
            <a:chOff x="838080" y="611496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53580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53580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611496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82668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82992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34392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38712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38712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38712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38712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34392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34680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38712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38712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34392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39036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34680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35616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38712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41196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60384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53580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53580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5732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53580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5732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60384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53580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53904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5732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60384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5732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60384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57900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000F-8A4A-4AA3-89D4-E0F5AB71AEE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Usa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riving the quanti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Use of assembly, count located assembly that refer to same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47920" y="1523880"/>
            <a:ext cx="5181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304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iece Design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3880" y="2743200"/>
            <a:ext cx="6019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aken from flavors fi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f profile defined explicitly, need a convention for storing name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1447920"/>
            <a:ext cx="79250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Material is inherited from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structural_frame_product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into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 assembly</a:t>
            </a: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 or </a:t>
            </a:r>
            <a:r>
              <a:rPr b="0" lang="en-US" sz="2800" spc="-1" strike="noStrike">
                <a:solidFill>
                  <a:srgbClr val="004c2b"/>
                </a:solidFill>
                <a:latin typeface="Arial"/>
              </a:rPr>
              <a:t>pa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685800" y="20574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0574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68580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terial Type Mapp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42670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Arial Unicode MS"/>
              </a:rPr>
              <a:t>Associate variables of defining a KISS labo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labor Typ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Size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Arial Unicode MS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Issu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Issues of Labor Type Mapp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62120" y="1828800"/>
          <a:ext cx="7162560" cy="445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828800"/>
                    <a:ext cx="7162560" cy="44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04920" y="1905120"/>
          <a:ext cx="8534160" cy="35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05120"/>
                    <a:ext cx="8534160" cy="35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2876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33520" y="2133720"/>
          <a:ext cx="7848360" cy="396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133720"/>
                    <a:ext cx="7848360" cy="39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Size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066680" y="2362320"/>
          <a:ext cx="6858000" cy="207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362320"/>
                    <a:ext cx="68580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KIS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40" y="-511956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1440" y="-3389400"/>
            <a:ext cx="6041880" cy="2293920"/>
            <a:chOff x="-1440" y="-3389400"/>
            <a:chExt cx="6041880" cy="2293920"/>
          </a:xfrm>
        </p:grpSpPr>
        <p:grpSp>
          <p:nvGrpSpPr>
            <p:cNvPr id="148" name=""/>
            <p:cNvGrpSpPr/>
            <p:nvPr/>
          </p:nvGrpSpPr>
          <p:grpSpPr>
            <a:xfrm>
              <a:off x="3240" y="-3384720"/>
              <a:ext cx="6032520" cy="2284200"/>
              <a:chOff x="3240" y="-3384720"/>
              <a:chExt cx="6032520" cy="228420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240" y="-3384720"/>
                <a:ext cx="2011320" cy="822240"/>
                <a:chOff x="3240" y="-3384720"/>
                <a:chExt cx="2011320" cy="8222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71640" y="-338472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ile ID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240" y="-338472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2014560" y="-3384720"/>
                <a:ext cx="844560" cy="822240"/>
                <a:chOff x="2014560" y="-3384720"/>
                <a:chExt cx="844560" cy="8222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2082960" y="-338472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F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014560" y="-338472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2859120" y="-3384720"/>
                <a:ext cx="3176640" cy="822240"/>
                <a:chOff x="2859120" y="-3384720"/>
                <a:chExt cx="3176640" cy="8222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2927520" y="-338472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Identifies file format, KISS version, application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859120" y="-338472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240" y="-2562480"/>
                <a:ext cx="2011320" cy="822240"/>
                <a:chOff x="3240" y="-2562480"/>
                <a:chExt cx="2011320" cy="8222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1640" y="-2562480"/>
                  <a:ext cx="1874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eader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240" y="-2562480"/>
                  <a:ext cx="20113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014560" y="-2562480"/>
                <a:ext cx="844560" cy="822240"/>
                <a:chOff x="2014560" y="-2562480"/>
                <a:chExt cx="844560" cy="82224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082960" y="-2562480"/>
                  <a:ext cx="7077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014560" y="-2562480"/>
                  <a:ext cx="844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859120" y="-2562480"/>
                <a:ext cx="3176640" cy="822240"/>
                <a:chOff x="2859120" y="-2562480"/>
                <a:chExt cx="3176640" cy="8222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927520" y="-2562480"/>
                  <a:ext cx="30398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Job #, name customer, date, time, units,type of bill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859120" y="-2562480"/>
                  <a:ext cx="3176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240" y="-1740240"/>
                <a:ext cx="2011320" cy="639720"/>
                <a:chOff x="3240" y="-1740240"/>
                <a:chExt cx="2011320" cy="639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1640" y="-1740240"/>
                  <a:ext cx="1874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Address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240" y="-1740240"/>
                  <a:ext cx="2011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2014560" y="-1740240"/>
                <a:ext cx="844560" cy="639720"/>
                <a:chOff x="2014560" y="-1740240"/>
                <a:chExt cx="844560" cy="6397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2082960" y="-1740240"/>
                  <a:ext cx="707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P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014560" y="-1740240"/>
                  <a:ext cx="8445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859120" y="-1740240"/>
                <a:ext cx="3176640" cy="639720"/>
                <a:chOff x="2859120" y="-1740240"/>
                <a:chExt cx="3176640" cy="6397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927520" y="-1740240"/>
                  <a:ext cx="30398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333333"/>
                      </a:solidFill>
                      <a:latin typeface="Times New Roman"/>
                      <a:ea typeface="Times New Roman"/>
                    </a:rPr>
                    <a:t>Names and address, contact info</a:t>
                  </a: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859120" y="-1740240"/>
                  <a:ext cx="3176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-1440" y="-3389400"/>
              <a:ext cx="6041880" cy="2293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240" y="-10954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eated Sections where Main Piece is listed , flowed by sub-pieces and associated labor, sequence and fabrication data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40" y="107902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639800" y="157320"/>
          <a:ext cx="5846760" cy="6883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9800" y="157320"/>
                    <a:ext cx="5846760" cy="68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Hol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oles- Not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" y="4267080"/>
            <a:ext cx="9034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1940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04920" y="2568600"/>
          <a:ext cx="8381880" cy="34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568600"/>
                    <a:ext cx="838188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opes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7664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1752480"/>
          <a:ext cx="8690040" cy="43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52480"/>
                    <a:ext cx="8690040" cy="43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 rot="5400000">
            <a:off x="2209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3352320" y="541008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2952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A camber labor that applies to a pie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Cambe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09480" y="1295280"/>
          <a:ext cx="7315200" cy="471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295280"/>
                    <a:ext cx="7315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 rot="18930000">
            <a:off x="6629040" y="4038120"/>
            <a:ext cx="38088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8930000">
            <a:off x="5486400" y="3962160"/>
            <a:ext cx="380880" cy="533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Burn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Definition of Size 1 and Size 2 are similar to Holes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Note field should refer to restricted cutting typ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Flame cut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Las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33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380880" y="2819520"/>
          <a:ext cx="8305920" cy="338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819520"/>
                    <a:ext cx="830592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 rot="13519200">
            <a:off x="8534160" y="4190400"/>
            <a:ext cx="30492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85800" y="990720"/>
          <a:ext cx="7086600" cy="533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990720"/>
                    <a:ext cx="7086600" cy="53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7162920" y="4572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05720" y="38862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Size 1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Labor Type Mapping- Weld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lvl="1" marL="665280" indent="-27936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195120" indent="-195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4567320" indent="-2087640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0024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953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7664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533520" y="1295280"/>
          <a:ext cx="7391160" cy="225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95280"/>
                    <a:ext cx="739116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2309760" y="273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57200" y="3733920"/>
          <a:ext cx="7696080" cy="23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733920"/>
                    <a:ext cx="76960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quivalent Structures to CIS/2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ata Flow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514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Header Instanc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Replicates information with a STEP file head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7920" y="1143000"/>
            <a:ext cx="533376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rawing re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iece and ship mark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ype of piece: W,L,I,H,AB,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ISC size design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STM Grade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ngth of piec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nish (op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2133720"/>
            <a:ext cx="8077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signation of Main Part in an Assemb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855720" indent="-85572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Consider using a note ‘main’ in an attribute fiel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apping a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400800" y="5638680"/>
            <a:ext cx="16765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revision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Drawing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Mapping a Drawing No. and a Drawing revision  No.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2057400"/>
          <a:ext cx="7391520" cy="350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57400"/>
                    <a:ext cx="7391520" cy="35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6400800" y="4267080"/>
            <a:ext cx="1676520" cy="30492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10280" y="548640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4572000"/>
            <a:ext cx="1676520" cy="91440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53080" y="3886200"/>
            <a:ext cx="10670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Drawing No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0800000">
            <a:off x="6858000" y="4114440"/>
            <a:ext cx="5335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Shipmark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Shipmar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Shipmark 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5800" y="2514600"/>
          <a:ext cx="754380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514600"/>
                    <a:ext cx="75438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 flipH="1" flipV="1">
            <a:off x="3581280" y="4114440"/>
            <a:ext cx="1905120" cy="160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54100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or quantity, count references to same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990720" y="4571640"/>
            <a:ext cx="1371600" cy="1523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5867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main’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etail Mapping -Piecemark 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7524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Piecemark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Exampl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Alternative of mapping a KISS Piecemark into CIS/2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2100240" indent="-1714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144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286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0048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4784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828800" y="2514600"/>
          <a:ext cx="5486400" cy="391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514600"/>
                    <a:ext cx="54864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Administrator</cp:lastModifiedBy>
  <cp:lastPrinted>2001-11-12T21:18:27Z</cp:lastPrinted>
  <dcterms:modified xsi:type="dcterms:W3CDTF">2001-11-12T21:50:09Z</dcterms:modified>
  <cp:revision>27</cp:revision>
  <dc:subject/>
  <dc:title>No Slide Title</dc:title>
</cp:coreProperties>
</file>